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D2A52-3269-4122-B140-1C1E4256A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86AE-BC5E-4287-8657-E77DD1CB4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A886-02BA-4CC5-A4C5-0CB202A1D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FDF3-779B-42BA-8229-B0578BECA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317C-CE6F-48CC-ACB5-574490BD47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BC85-1A24-4268-8C19-FFB1E91BB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A543-E40B-443D-B99C-64DB4C593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E3EE-9528-48B8-8634-6EB729872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AFB9-E18C-47C0-8BFE-B0630AB3A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2651E-3CCE-4753-ACCB-D834E978A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B8A07-BF01-4D10-81CC-CB07F73FE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A864-FD5A-429B-852B-23C9A3498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36720" y="6367320"/>
            <a:ext cx="64764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B61C-26C5-4C00-B610-A88CBAE8A17B}" type="slidenum">
              <a:rPr b="1" lang="en-US" sz="16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watcom.org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924280"/>
            <a:ext cx="8642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QNX4 адаптер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для Telelogic Rhapsody</a:t>
            </a:r>
            <a:r>
              <a:rPr b="1" lang="en-GB" sz="4400" spc="-1" strike="noStrike">
                <a:solidFill>
                  <a:srgbClr val="333399"/>
                </a:solidFill>
                <a:latin typeface="Times New Roman"/>
              </a:rPr>
              <a:t>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32000" y="5157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Андрей Док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нженер–программ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ОО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ВД Встраиваемые Системы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.Docuchaev@kpd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4. 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 архиве с адаптером поставляется тест корректности установки среды разработ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penWatcom.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ест состоит из двух файлов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C++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кода примера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.cpp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 и командного файла его сборки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ke.bat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Запуск командного файла, при условии корректной установке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иведет к созданию объектного файла (1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bj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 исполняемого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.qnx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3025800"/>
            <a:ext cx="3960720" cy="266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3025800"/>
            <a:ext cx="381636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F30B-F0DA-4200-A1AE-E0166F0B601E}" type="slidenum">
              <a:t>10</a:t>
            </a:fld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BM Telelogic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 выз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трудностей, единственное важное условие – путь устан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 должен содержать проб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дальнейшем будем считать, что среда 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лена директорию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3200" y="4178160"/>
            <a:ext cx="642960" cy="6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F311-D1FF-4014-BDB8-1BE4D9864F48}" type="slidenum">
              <a:t>11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Проверка структуры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иректория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аптера должна содержать след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анны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аптер поставляется в вид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жатого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r -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арх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76360" y="1874880"/>
            <a:ext cx="6305400" cy="2943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9640" y="4782960"/>
            <a:ext cx="642960" cy="6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C19F-52CB-4774-ADC7-903EE296A61A}" type="slidenum">
              <a:t>12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становка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держимое директории адаптера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обходимо скопировать в одноименную директорию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 (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рассматриваемом случа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\Sha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дентификация адаптера в среде разработки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hapsod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осуществляется при помощи файлов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войств из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\Share\Properties”.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и настройке адаптера возможны следующие варианты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анный адаптер един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 среде разработки уже имеются другие адапт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408D-824E-408B-8A4B-F396CF03B624}" type="slidenum">
              <a:t>13</a:t>
            </a:fld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.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Конфигурирование среды разработк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отсутствии других адап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5920" y="1782360"/>
            <a:ext cx="80024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данном случае достаточно заменить файл siteC++.prp, находящийся в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\Properties”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на файл sample_siteC++.prp из этой же дирек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даление файла siteC++.prp может привести к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возможности запус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8720" y="3656160"/>
            <a:ext cx="6159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C87F-55E9-43BC-AB00-2D76D213D445}" type="slidenum">
              <a:t>14</a:t>
            </a:fld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.2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Конфигурирование среды разработк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наличии других адап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случае наличия других установленных адаптеров, например адаптера QNX63_x86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необходимо скорректировать файл siteC++.prp из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\Properties”,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обавив указанные строки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сле выполнения этих действий необход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ерезапустит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58920" y="2665440"/>
            <a:ext cx="6480000" cy="2074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1280" y="4782960"/>
            <a:ext cx="642960" cy="6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D14F3-1B4A-4774-BD20-9C3554E45DB2}" type="slidenum">
              <a:t>15</a:t>
            </a:fld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Завершение установки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оздайте переменную окружения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qnx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425_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er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_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th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и укажите в ней путь к директори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Share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реды разработ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и указании пути используйте только обратный слеш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 “\”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копируйте файл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qnx4conv.exe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з директори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bin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адаптера в директорию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\binnt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реды разработ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3313080"/>
            <a:ext cx="642960" cy="647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843280" y="1944720"/>
            <a:ext cx="3457440" cy="143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1B05-A239-407D-B737-598669A34A62}" type="slidenum">
              <a:t>16</a:t>
            </a:fld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1. Настройка модуля поддерж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91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ыполните настройку модуля поддержки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в соответствии с эксплуатационной документацией фирмы разработч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Убедитесь в наличии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адреса и соответствующего имени хоста инструментальной системы в конфигурационном файле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/etc/hosts”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61920" y="4573440"/>
            <a:ext cx="2152800" cy="8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FB31-167F-4BDD-8F41-1A3F6647A7CD}" type="slidenum">
              <a:t>17</a:t>
            </a:fld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Активирование сервисо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Shell (rsh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оступ к сервисам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Remote Shell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TP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осуществляется при 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емона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etd.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и запуске демон считывает конфигурационный фай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/etc/inetd.conf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 в соответствии с его содержанием запуск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необходимые сервисы. Для активации указанных выше серви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необходимо отредактировать данный конфигурационный файл, удали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имволы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#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з следующих строк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0" r="0" b="19512"/>
          <a:stretch/>
        </p:blipFill>
        <p:spPr>
          <a:xfrm>
            <a:off x="568440" y="3108240"/>
            <a:ext cx="5143320" cy="1081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68440" y="4260960"/>
            <a:ext cx="5181480" cy="10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F055-8B35-4744-BC79-7005EC6B0864}" type="slidenum">
              <a:t>18</a:t>
            </a:fld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Настрой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тестирование сервис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23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оздадим от имени пользователя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ot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файл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/.rhosts”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 правами 644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 внесем в него имя хоста с которого разрешено подключаться к целевой систем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командной строке инструментальной системы выполним команду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rsh 192.168.0.102 –l root who –m”,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указав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P –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адрес целевой системы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При успешном завершении команды будет выведен результат выполнения команды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ho –m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а целевой систем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противном случае необходимо проверить настройку модуля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CP/IP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 службы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mote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4572000" cy="1200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6381720" cy="128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900000" y="486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B2AF-9603-4444-993B-3DCE18E2287A}" type="slidenum">
              <a:t>19</a:t>
            </a:fld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з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Рассмотрен способ автоматической генерации кода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++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для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 4.25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 среде разработки Telelogic Rhapsody версии 7.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ри помощи соответствующего адап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одробно описан алгоритм установки и настройки компонентов, необходимых для автоматической генерации кода, его сборки и запуска на целевой системе под управлением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 4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6441-D7A7-420A-BC3F-31EE1A367B71}" type="slidenum">
              <a:t>2</a:t>
            </a:fld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стройка и тестировани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здадим пользователя и группу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“ft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льзовател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олжен иметь парол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командной строке инструментальной системы выполним следующие команды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казав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P –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рес целевой системы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tp 192.168.0.102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- для подключения к целевой системе (указав имя пользователя и пароль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ftp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s -al” –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ля проверки возможности выполнения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00000" y="1512720"/>
            <a:ext cx="6210360" cy="1171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00000" y="28098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D5DD-2BA1-4FF0-AB8D-60EE8B24E87B}" type="slidenum">
              <a:t>20</a:t>
            </a:fld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стройка и тестировани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имер выполнения команд приведен ниж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40888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5119-950C-48EA-8983-BD206C76C0B2}" type="slidenum">
              <a:t>21</a:t>
            </a:fld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Настройка скрипт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425run.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обеспечения возможности автоматической передачи исполняемого файла проекта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на целевую систему по протоколу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TP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файл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\Share\etc\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25run.bat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обходимо указат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P –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рес целевой системы, как это отражено на рисунк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46674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A085-B606-42B4-8600-FC93FF694CE4}" type="slidenum">
              <a:t>22</a:t>
            </a:fld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естирование адаптера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аг 1. Создание нов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Создаем тестовый проект, например – счет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96080" cy="383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0B97-AC06-4A3F-8E2B-BB0BD30C1863}" type="slidenum">
              <a:t>23</a:t>
            </a:fld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естирование адаптера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аг 2. Выбор активного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настройках текущей конфигурации выбираем адаптер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25_x86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и собираем проект (пункт меню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de\GMR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4543200" cy="1952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3324240" cy="18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03B3-D897-4B8A-90ED-5B2BB792AB1B}" type="slidenum">
              <a:t>24</a:t>
            </a:fld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стирование адаптер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Исполнение на целевой маш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0" t="0" r="11168" b="28170"/>
          <a:stretch/>
        </p:blipFill>
        <p:spPr>
          <a:xfrm>
            <a:off x="1187280" y="1268280"/>
            <a:ext cx="676944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A0A0-CE60-4BF9-9B4C-58DB5D367207}" type="slidenum">
              <a:t>25</a:t>
            </a:fld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15640" y="2637000"/>
            <a:ext cx="6985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ОО «СВД Встраиваемые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196066, г. Санкт-Петербург,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Московский проспект, д. 212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ел.: (812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971-71-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факс: (812) 373-19-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нтернет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kpda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ех. поддержка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support@kpd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lelogic 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elelogic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Rhapsody – это среда разработки на основе языка визуального моделирования UM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2.0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(Unified Modeling Language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а также SysML - расширения UML для описания аппаратно-программных систем, а также встраиваемых систем и систем реального времени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Rhapsody предоставляет системным инженерам и разработчикам ПО общую среду разработки с использованием визуального моделирования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Rhapsody позволяет автоматизировать процесс проектирования встраиваемых систем, включающий проектирование систем и программного обеспечения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оддержка генерации кода для специфичной ОС осуществляется посредством разработки соответствующего адаптера, являющегося прослойкой между ОС 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06A7-63E3-45F9-80FF-5EF955D4C9A2}" type="slidenum">
              <a:t>3</a:t>
            </a:fld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значение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аптер предназначен для поддержки автоматической генерации и сбор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++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кода в сред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lelogic Rhapsody 7.1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для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состав адаптера входят файлы, необходимые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существления автоматической генерации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омежуточного тестирования рабо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меется возможность автоматической передачи исполняемых файлов приложений, сгенерированных в сред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lelogic Rhapsody 7.1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а целевую систему по протоколу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E94CC-6758-434D-96DD-6FFEA342C9E5}" type="slidenum">
              <a:t>4</a:t>
            </a:fld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обходимое 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Для установки адаптера необходимо следующее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О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а разработки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lelogic Rhapsody in C++ Development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Адаптер тестировался с версией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7.1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Build No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. 89362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истема программирования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версии 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а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v.10.6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для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, доступная на время установки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Целевая система под управлением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ерсии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ля обеспечения автоматической передачи исполняемого файла проекта на целевой системе необходимо установить модуль поддерж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CP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E3AB4-D90D-46FB-96E6-0007805E32C7}" type="slidenum">
              <a:t>5</a:t>
            </a:fld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дготовка рабочего места разработ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одготовка рабочего места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может выполнять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ледующей последовательности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и настрой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Копирование из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библиотек и заголовочных файлов, необходимых при разработке приложений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BM Telelogic 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астройка целевой системы с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 4.25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автоматизированного приема исполняемых файлов приложений, сгенерированных в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F2C9-254E-41E1-8922-28D631232AC4}" type="slidenum">
              <a:t>6</a:t>
            </a:fld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1. Установка среды 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28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а разработки доступна на сайте производителя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openwatco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уть установки не должен содержать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6960" y="1946160"/>
            <a:ext cx="559116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386400" y="194616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1713-52B3-4ECE-913F-6F8341514BAB}" type="slidenum">
              <a:t>7</a:t>
            </a:fld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2. Установка переменных окру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34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сле установки необходимо установить след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еременные окружения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=“C:\Watco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th=Path+“C:\Watcom\binnt;C:\Watcom\bin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DPATH=“C:\Watcom\edd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CLUDE=“C:\Watcom\h\qnx38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и установке системных переменных необходи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спользовать только обратный слеш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 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46280" y="44658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AFF1-900F-4608-811B-E71E2E52E15F}" type="slidenum">
              <a:t>8</a:t>
            </a:fld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Извлечение библиотек и заголовочных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копирования необходимых библиотек и заголовоч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файлов из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 необходимо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здать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%WATCOM%\h\qnx386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%WATCOM%\lib386\qnx38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копировать содержимое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/usr/watcom/10.6/ usr/include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QNX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заранее созданную директорию инструментальной системы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\h\qnx386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копировать содержимое директории 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usr/watcom/10.6/ usr/lib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”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в подготовленную директорию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\lib386\qnx386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1542-D0A3-4E81-9A0D-02C8D161BF7B}" type="slidenum">
              <a:t>9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9:16:24Z</dcterms:created>
  <dc:creator>Андрей Докучаев</dc:creator>
  <dc:description/>
  <dc:language>en-US</dc:language>
  <cp:lastModifiedBy>anger</cp:lastModifiedBy>
  <dcterms:modified xsi:type="dcterms:W3CDTF">2008-08-26T22:00:00Z</dcterms:modified>
  <cp:revision>242</cp:revision>
  <dc:subject>Поддержка визуальной разработки приложений для QNX4 (КПДА.00002-01) в среде IBM Telelogic Rhapsody</dc:subject>
  <dc:title>Презентация</dc:title>
</cp:coreProperties>
</file>