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AF3F8-BC3C-4044-8EE1-64DB9E223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ABA1-8A70-4AA1-B9B4-41D45A492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D96A-D288-4466-82A5-61A69DDE8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05C7-154D-4E37-8017-34BE75213D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8107-0295-48AF-AA9F-7E3A5F2385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E45D-7FB4-45F5-B876-5D9DD38E5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BB99-B1E0-4C84-8EC8-02B55A3CC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995FB-9ECE-48DB-80A6-92FFF206A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BBF0-6365-4349-ACAB-C13398C03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7FE2C-551F-4E43-A47F-3B284E5B9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A057-FA98-4CF4-9376-1BA7AC825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75A25-91D1-48FD-94DE-AA62482F7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36720" y="6367320"/>
            <a:ext cx="64764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139F-7C5C-425B-B98C-88C1F9FF689D}" type="slidenum">
              <a:rPr b="1" lang="en-US" sz="16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watcom.org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305280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he QNX4 Adapter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for </a:t>
            </a: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Telelogic Rhapsody</a:t>
            </a:r>
            <a:r>
              <a:rPr b="1" lang="en-GB" sz="4400" spc="-1" strike="noStrike">
                <a:solidFill>
                  <a:srgbClr val="333399"/>
                </a:solidFill>
                <a:latin typeface="Times New Roman"/>
              </a:rPr>
              <a:t>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dre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ocucha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BD BC, software 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ngin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.Docuchaev@kp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of the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apter’s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dapter’s directory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Share” should be copied to directory “Share” of the Rhapsody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“C:\Rhapsody\Shar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y be following sit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adapter is th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re are other ad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D467-DBA8-4586-B4C5-43073A7A6CC2}" type="slidenum">
              <a:t>10</a:t>
            </a:fld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of the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without other adap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2276640"/>
            <a:ext cx="800244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You should replace file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 siteC++.prp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from Rhapsody’s directory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“Share\Properties”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ith file 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sample_siteC++.p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CC6C-AC6B-4491-BC4A-A1C6226DE94A}" type="slidenum">
              <a:t>11</a:t>
            </a:fld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of the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if installed other adap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dit file 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siteC++.prp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rom Rhapsody’s directory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“Share\Propertie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58920" y="2924280"/>
            <a:ext cx="6480000" cy="20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870E-CF5C-4887-B08C-750E44531497}" type="slidenum">
              <a:t>12</a:t>
            </a:fld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of the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ishing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38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reate environment variab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25_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apter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_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th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d set it’s value to Rhapsody’s director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 set paths use only 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py fi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4conv.exe from adapter’s director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bin” to director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\bin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3529080"/>
            <a:ext cx="642960" cy="64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843280" y="2205000"/>
            <a:ext cx="3457440" cy="143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C674-21C2-40F0-B1DA-A0E3F5C96A04}" type="slidenum">
              <a:t>13</a:t>
            </a:fld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P/IP for QNX 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se “User’s Guide” to configure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CP/IP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r QNX 4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ake sure that IP address and hostname of host system are exists in configuration file “/etc/hosts”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71640" y="4357800"/>
            <a:ext cx="2152440" cy="79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AFEB-8E21-469D-9C0E-38E695F1F5D9}" type="slidenum">
              <a:t>14</a:t>
            </a:fld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vation Remote Shell (rsh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rvices Remote Shell and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TP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e available with demon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etd. When demon starting, it’s read configuration file “/etc/inetd.conf” and running services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 activate Remote Shell and FTP services you should edit this configuration file and delete symbol “#” fro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0" r="0" b="19512"/>
          <a:stretch/>
        </p:blipFill>
        <p:spPr>
          <a:xfrm>
            <a:off x="468360" y="3201840"/>
            <a:ext cx="5143320" cy="108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8360" y="4354560"/>
            <a:ext cx="5181480" cy="10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9C5A2-E179-4C8D-942D-BDF4FB48C841}" type="slidenum">
              <a:t>15</a:t>
            </a:fld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and tes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23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ogin to target system as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ot and create file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“/.rhosts” with rights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644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. Edit this file and add hostname of the host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n command line on the host system execute command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“rsh 192.168.0.102 –l root who –m” with IP address of the target syst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f this command finished successfully you’ll see the result of executing command “who –m” on the target system. Otherwise you should to repeat configuring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CP/IP for QNX 4.25 and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mote Shell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457200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6381720" cy="1285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900000" y="482616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062D-8C66-43E6-AF22-E50A8187A35B}" type="slidenum">
              <a:t>16</a:t>
            </a:fld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and tes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348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reate user and group “ftp” on the target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r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ftp” must have password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ft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 command line on the host system execute ftp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tp 192.168.0.102”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o connect to target system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se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sername and password “ftp”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s -al” – to test executing ftp commands on the targ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06640" y="1955880"/>
            <a:ext cx="6210000" cy="117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06640" y="32814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30C2-1268-4BBF-99A1-5D5F2614E358}" type="slidenum">
              <a:t>17</a:t>
            </a:fld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and tes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h the sample of executing ftp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40888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2D53-97A0-4F5A-A2C7-6C0A29CDCE94}" type="slidenum">
              <a:t>18</a:t>
            </a:fld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run script file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425run.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 guarantee automatic transferring project’s executable file to the target system by FTP you should edit script file “C:\Rhapsody\Share\etc\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nx425run.bat” and set IP address of the target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0920" y="2781360"/>
            <a:ext cx="46674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329E-5F70-450C-807D-C9DFBA95D607}" type="slidenum">
              <a:t>19</a:t>
            </a:fld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resentation describes the installation and configuring process for every component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quired to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eneration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building and running Rhapsody developed applications on the QNX 4.25 targe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3B925-E705-46D1-BB92-E6F8818A87E1}" type="slidenum">
              <a:t>2</a:t>
            </a:fld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ing the adapte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ing sampl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reate sample Rhapsody project –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un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596080" cy="383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5B11-5F82-4E1D-B220-8B7CCBF013B5}" type="slidenum">
              <a:t>20</a:t>
            </a:fld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ing the adapte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2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ing the ad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hoose the QNX425_x86 adapter in current configuration and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ing menu item “Code\GMR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4543200" cy="1952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3324240" cy="181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5EDA-A6E5-4807-9B02-57C98D5D2973}" type="slidenum">
              <a:t>21</a:t>
            </a:fld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ing the adapte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xecuting the project on the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rge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0" r="11168" b="28170"/>
          <a:stretch/>
        </p:blipFill>
        <p:spPr>
          <a:xfrm>
            <a:off x="1187280" y="1268280"/>
            <a:ext cx="676944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D067-2109-4AC5-BD03-E3A13732DA2F}" type="slidenum">
              <a:t>22</a:t>
            </a:fld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ank you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!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15640" y="2636640"/>
            <a:ext cx="69850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BD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aint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tersburg, Rus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ttp://www.kpda.ru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hone: +7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81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971 71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-mail: support@kpd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als of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upport MDD for RTOS QNX 4.25 with Telelogic Rhapsody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sting of installation correc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ransfer application executables on the target via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E6F4-3029-4837-9913-6E4734B04AD0}" type="slidenum">
              <a:t>3</a:t>
            </a:fld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quire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lelogic Rhapsody in C++ Development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adapter has been tested with version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7.1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uild no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. 893629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.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1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++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v.10.6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QNX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(its libraries and headers must be accessible for adapter instal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arget system with RTOS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NX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4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TCP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P stack must to be installed on the QNX4 target for transferring execu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CE762-F1DA-4F2B-96C9-2716E247A525}" type="slidenum">
              <a:t>4</a:t>
            </a:fld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paration of a developer’s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stallation and configuring OpenWat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pying libraries and headers from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quired for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QNX4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lelogic Rhapsody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dapter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iguring TCP/IP stack, FTP and inetd on the QNX target system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o automated receiving executables from Rhaps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94F4-C81B-470A-A45E-FCF7E13A08C9}" type="slidenum">
              <a:t>5</a:t>
            </a:fld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and configuring OpenWatco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28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enWatcom can be downloaded from official web sit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openwatcom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installation path must have no 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96960" y="1946160"/>
            <a:ext cx="559116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386400" y="194616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A26B4-975D-41A5-A1AD-083392EBDE20}" type="slidenum">
              <a:t>6</a:t>
            </a:fld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and configuring OpenWatcom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2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ting environmen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fter installation you should set environment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=“C:\Wat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th=Path+“C:\Watcom\binnt;C:\Watcom\bin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DPATH=“C:\Watcom\edd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CLUDE=“C:\Watcom\h\qnx386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 set paths use only “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\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447984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A275-49E4-4BF6-A130-B99D17CF8F96}" type="slidenum">
              <a:t>7</a:t>
            </a:fld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and configuring OpenWatcom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braries and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ders from Watcom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reating directories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%WATCOM%\h\qnx386” and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%WATCOM%\lib386\qnx386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pying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/usr/watcom/10.6/usr/include/*” fr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++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QNX to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%\h\qnx386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” on the hos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pying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/usr/watcom/10.6/usr/lib/*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”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r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++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QNX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%\lib386\qnx386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” on the hos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5703-D920-45D1-8F61-6FAD411C06E5}" type="slidenum">
              <a:t>8</a:t>
            </a:fld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and configuring OpenWatcom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4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adapter includes a test for OpenWatcom. The test consist of two files: C++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amp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.cpp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d build script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ke.bat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 After running the build script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 object fi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(1.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bj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nd an executable fi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.qnx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e expected to be created. Otherwise you should to reinstall OpenWatc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3025800"/>
            <a:ext cx="3960720" cy="266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16360" y="3025800"/>
            <a:ext cx="381636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05D7-9B0A-4E48-8C40-9F3F03817005}" type="slidenum">
              <a:t>9</a:t>
            </a:fld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9:16:24Z</dcterms:created>
  <dc:creator>Andrey Docuchaev</dc:creator>
  <dc:description/>
  <dc:language>en-US</dc:language>
  <cp:lastModifiedBy>anger</cp:lastModifiedBy>
  <dcterms:modified xsi:type="dcterms:W3CDTF">2008-08-26T21:59:11Z</dcterms:modified>
  <cp:revision>314</cp:revision>
  <dc:subject>Supporting visual development of applications for QNX4 in Telelogic Rhapsody</dc:subject>
  <dc:title>Presentation</dc:title>
</cp:coreProperties>
</file>