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C4288-2402-41DA-9FEC-7C8494A4B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D00F9-5844-4534-AFEC-5B7B691E7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DEF30-D0C4-46F4-9DF6-33EB3AB66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41A80-B855-4D17-95A1-8EDF99165B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F5315-DCF5-4755-BBDE-87347F1005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2FCB9-C6F7-4AF4-B7C0-814135D6E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67F83-84B5-4631-B31D-5EA2ED5C9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E64C-E2A0-4996-AADF-FCB886A45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73E89-30C8-48E6-910A-5A81C0921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22E5-0F77-4A2F-A43A-AA7E581C5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6DFEA-0E34-45CC-8CBF-B6CD04253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96F13-88F2-4A6F-B01E-55EF2398D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-36720" y="6367320"/>
            <a:ext cx="64764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57F1-BB9F-4337-A2B5-7C45B22BA200}" type="slidenum">
              <a:rPr b="1" lang="en-US" sz="16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penwatcom.org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2924280"/>
            <a:ext cx="8642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QNX4 адаптер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для Telelogic Rhapsody</a:t>
            </a:r>
            <a:r>
              <a:rPr b="1" lang="en-GB" sz="4400" spc="-1" strike="noStrike">
                <a:solidFill>
                  <a:srgbClr val="333399"/>
                </a:solidFill>
                <a:latin typeface="Times New Roman"/>
              </a:rPr>
              <a:t>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32000" y="5157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Андрей Докуча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нженер–программи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ООО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ВД Встраиваемые Системы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.Docuchaev@kpda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ка и настройка среды разработк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Watcom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4. Тес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В архиве с адаптером поставляется тест корректности установки среды разработки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OpenWatcom.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Тест состоит из двух файлов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C++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кода примера (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.cpp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) и командного файла его сборки (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ake.bat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Запуск командного файла, при условии корректной установке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OpenWatcom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риведет к созданию объектного файла (1.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obj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 исполняемого (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.qnx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1280" y="3025800"/>
            <a:ext cx="3960720" cy="2665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716360" y="3025800"/>
            <a:ext cx="381636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DAE1C-089F-4477-AD65-F2E8782957EB}" type="slidenum">
              <a:t>10</a:t>
            </a:fld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к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BM Telelogic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91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становка среды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hapsody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не вызы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трудностей, единственное важное условие – путь устан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не должен содержать проб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дальнейшем будем считать, что среда разрабо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становлена директорию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C:\Rhapsod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3200" y="4178160"/>
            <a:ext cx="642960" cy="6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A7D6B-2C78-431D-ACE3-C898340A2A1B}" type="slidenum">
              <a:t>11</a:t>
            </a:fld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ка адаптер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л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Проверка структуры адап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иректория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Share”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адаптера должна содержать следу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анные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Адаптер поставляется в виде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жатого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ar -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арх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476360" y="1874880"/>
            <a:ext cx="6305400" cy="2943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39640" y="4782960"/>
            <a:ext cx="642960" cy="6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F3002-25B6-401F-98B6-98DF03CDB282}" type="slidenum">
              <a:t>12</a:t>
            </a:fld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ка адаптер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л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Установка адап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0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одержимое директории адаптера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Share”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необходимо скопировать в одноименную директорию среды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hapsody (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рассматриваемом случае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C:\Rhapsody\Shar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Идентификация адаптера в среде разработки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Rhapsody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осуществляется при помощи файлов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войств из директори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C:\Rhapsody\Share\Properties”.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и настройке адаптера возможны следующие варианты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данный адаптер единст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в среде разработки уже имеются другие адапт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A01C3-C44D-4899-A07F-D6577C338966}" type="slidenum">
              <a:t>13</a:t>
            </a:fld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становка адаптера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ля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.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. Конфигурирование среды разработки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hapsody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 отсутствии других адапт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5920" y="1782360"/>
            <a:ext cx="800244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данном случае достаточно заменить файл siteC++.prp, находящийся в директори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Share\Properties”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на файл sample_siteC++.prp из этой же дирек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даление файла siteC++.prp может привести к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невозможности запуска среды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haps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28720" y="3656160"/>
            <a:ext cx="61596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48DAE-BC63-4C21-8574-1BC1CB163A90}" type="slidenum">
              <a:t>14</a:t>
            </a:fld>
          </a:p>
        </p:txBody>
      </p: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становка адаптера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ля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.2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. Конфигурирование среды разработки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hapsody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 наличии других адапт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случае наличия других установленных адаптеров, например адаптера QNX63_x86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необходимо скорректировать файл siteC++.prp из директори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Share\Properties”,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обавив указанные строки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осле выполнения этих действий необходи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ерезапустить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haps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258920" y="2665440"/>
            <a:ext cx="6480000" cy="2074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11280" y="4782960"/>
            <a:ext cx="642960" cy="6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837EC-6B04-495D-BAE7-AB1020B7FC33}" type="slidenum">
              <a:t>15</a:t>
            </a:fld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ка адаптер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л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Завершение установки адап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оздайте переменную окружения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qnx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425_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dapter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_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ath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и укажите в ней путь к директории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Share”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реды разработки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haps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ри указании пути используйте только обратный слеш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 “\”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копируйте файл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qnx4conv.exe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з директории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bin”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адаптера в директорию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WATCOM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\binnt”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реды разработки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OpenWat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6920" y="3313080"/>
            <a:ext cx="642960" cy="647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843280" y="1944720"/>
            <a:ext cx="3457440" cy="143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015B5-F526-40F7-8BFB-8DA3EE3021D9}" type="slidenum">
              <a:t>16</a:t>
            </a:fld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тройка целевой системы под управление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1. Настройка модуля поддержк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91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ыполните настройку модуля поддержки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CP/IP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в соответствии с эксплуатационной документацией фирмы разработч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Убедитесь в наличии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P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адреса и соответствующего имени хоста инструментальной системы в конфигурационном файле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/etc/hosts”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61920" y="4573440"/>
            <a:ext cx="2152800" cy="8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2A773-C793-4307-8C6C-09953BC7F856}" type="slidenum">
              <a:t>17</a:t>
            </a:fld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тройка целевой системы под управление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Активирование сервисов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ote Shell (rsh)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Доступ к сервисам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Remote Shell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TP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осуществляется при 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демона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netd.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ри запуске демон считывает конфигурационный фай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/etc/inetd.conf”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 в соответствии с его содержанием запуск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необходимые сервисы. Для активации указанных выше серви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необходимо отредактировать данный конфигурационный файл, удали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имволы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#”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з следующих строк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0" t="0" r="0" b="19512"/>
          <a:stretch/>
        </p:blipFill>
        <p:spPr>
          <a:xfrm>
            <a:off x="568440" y="3108240"/>
            <a:ext cx="5143320" cy="1081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68440" y="4260960"/>
            <a:ext cx="5181480" cy="10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D9FF9-8F33-4556-BEE7-E9D8B910BEE2}" type="slidenum">
              <a:t>18</a:t>
            </a:fld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тройка целевой системы под управление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Настройк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тестирование сервис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ote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23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Создадим от имени пользователя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oot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файл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“/.rhosts”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с правами 644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 внесем в него имя хоста с которого разрешено подключаться к целевой системе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В командной строке инструментальной системы выполним команду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“rsh 192.168.0.102 –l root who –m”,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указав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P –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адрес целевой системы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При успешном завершении команды будет выведен результат выполнения команды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who –m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на целевой системе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в противном случае необходимо проверить настройку модуля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CP/IP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и службы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mote 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4572000" cy="1200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900000" y="3357720"/>
            <a:ext cx="6381720" cy="1285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900000" y="486900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5CE75-2E86-49D7-8D2A-3373B58C4270}" type="slidenum">
              <a:t>19</a:t>
            </a:fld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з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Рассмотрен способ автоматической генерации кода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++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для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NX 4.25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 среде разработки Telelogic Rhapsody версии 7.1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при помощи соответствующего адап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Подробно описан алгоритм установки и настройки компонентов, необходимых для автоматической генерации кода, его сборки и запуска на целевой системе под управлением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NX 4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AEB18-8AAA-45FC-A497-78EAA7515DC5}" type="slidenum">
              <a:t>2</a:t>
            </a:fld>
          </a:p>
        </p:txBody>
      </p:sp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тройка целевой системы под управление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Настройка и тестирование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оздадим пользователя и группу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“ft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ользователь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ftp”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олжен иметь пароль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ft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командной строке инструментальной системы выполним следующие команды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казав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P –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адрес целевой системы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tp 192.168.0.102”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- для подключения к целевой системе (указав имя пользователя и пароль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ftp”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s -al” –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для проверки возможности выполнения кома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00000" y="1512720"/>
            <a:ext cx="6210360" cy="1171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00000" y="280980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0F6D4-5C71-4CB0-B2E2-C99A8294CA5B}" type="slidenum">
              <a:t>20</a:t>
            </a:fld>
          </a:p>
        </p:txBody>
      </p:sp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тройка целевой системы под управление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Настройка и тестирование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имер выполнения команд приведен ниже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408880" cy="395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3C4A2-ACF5-4D13-9C7F-38EABFB31D06}" type="slidenum">
              <a:t>21</a:t>
            </a:fld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стройка целевой системы под управлением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Настройка скрипт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425run.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ля обеспечения возможности автоматической передачи исполняемого файла проекта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hapsody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на целевую систему по протоколу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TP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файле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C:\Rhapsody\Share\etc\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nx425run.bat”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необходимо указать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P –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адрес целевой системы, как это отражено на рисунке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050920" y="2781360"/>
            <a:ext cx="4667400" cy="26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C979B-AF76-4088-9B87-C9C9DFDB1D0F}" type="slidenum">
              <a:t>22</a:t>
            </a:fld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естирование адаптера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Шаг 1. Создание нового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Создаем тестовый проект, например – счет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596080" cy="383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BAB04-728A-471E-A6A0-686FEAD41D18}" type="slidenum">
              <a:t>23</a:t>
            </a:fld>
          </a:p>
        </p:txBody>
      </p:sp>
    </p:spTree>
  </p:cSld>
  <p:transition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естирование адаптера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Шаг 2. Выбор активного адап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настройках текущей конфигурации выбираем адаптер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NX425_x86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и собираем проект (пункт меню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de\GMR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4543200" cy="1952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219640" y="4005360"/>
            <a:ext cx="3324240" cy="181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9E350-1496-4756-8DA1-608EDEB0935E}" type="slidenum">
              <a:t>24</a:t>
            </a:fld>
          </a:p>
        </p:txBody>
      </p:sp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стирование адаптер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Исполнение на целевой маш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rcRect l="0" t="0" r="11168" b="28170"/>
          <a:stretch/>
        </p:blipFill>
        <p:spPr>
          <a:xfrm>
            <a:off x="1187280" y="1268280"/>
            <a:ext cx="6769440" cy="41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495DD-B895-4F2D-8251-5FBE540BD5B2}" type="slidenum">
              <a:t>25</a:t>
            </a:fld>
          </a:p>
        </p:txBody>
      </p:sp>
    </p:spTree>
  </p:cSld>
  <p:transition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115640" y="2637000"/>
            <a:ext cx="6985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ООО «СВД Встраиваемые Систем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196066, г. Санкт-Петербург,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Московский проспект, д. 212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тел.: (812)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971-71-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факс: (812) 373-19-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Интернет: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http://www.kpda.ru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Тех. поддержка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: support@kpda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lelogic Rhaps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elelogic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Rhapsody – это среда разработки на основе языка визуального моделирования UML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2.0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(Unified Modeling Language)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а также SysML - расширения UML для описания аппаратно-программных систем, а также встраиваемых систем и систем реального времени.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Rhapsody предоставляет системным инженерам и разработчикам ПО общую среду разработки с использованием визуального моделирования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Rhapsody позволяет автоматизировать процесс проектирования встраиваемых систем, включающий проектирование систем и программного обеспечения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оддержка генерации кода для специфичной ОС осуществляется посредством разработки соответствующего адаптера, являющегося прослойкой между ОС и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Rhapsody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4A861-53CC-440A-AD49-DD78FB41761B}" type="slidenum">
              <a:t>3</a:t>
            </a:fld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значение адаптера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л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Адаптер предназначен для поддержки автоматической генерации и сбор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++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кода в среде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elelogic Rhapsody 7.1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для ОС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NX 4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состав адаптера входят файлы, необходимые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осуществления автоматической генерации к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омежуточного тестирования работо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Имеется возможность автоматической передачи исполняемых файлов приложений, сгенерированных в среде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elelogic Rhapsody 7.1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на целевую систему по протоколу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D092A-1F4F-47F3-872F-51146487AD2B}" type="slidenum">
              <a:t>4</a:t>
            </a:fld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еобходимое программное обесп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Для установки адаптера необходимо следующее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ПО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реда разработки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elelogic Rhapsody in C++ Development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Адаптер тестировался с версией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7.1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Build No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. 893629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истема программирования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penWatcom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версии 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реда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++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v.10.6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для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QNX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4, доступная на время установки адап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Целевая система под управлением ОС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NX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ерсии 4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Для обеспечения автоматической передачи исполняемого файла проекта на целевой системе необходимо установить модуль поддержки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CP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B0A28-2D26-4A81-B087-375BF91FFF9F}" type="slidenum">
              <a:t>5</a:t>
            </a:fld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дготовка рабочего места разработч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Подготовка рабочего места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может выполняться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ледующей последовательности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становка и настройка среды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penWat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Копирование из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библиотек и заголовочных файлов, необходимых при разработке приложений ОС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NX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становка среды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BM Telelogic Rhaps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становка адап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Настройка целевой системы с ОС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NX 4.25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ля автоматизированного приема исполняемых файлов приложений, сгенерированных в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haps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52E7D-84AE-4D00-938A-D059AA944C64}" type="slidenum">
              <a:t>6</a:t>
            </a:fld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ка и настройка среды разработк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Watcom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1. Установка среды разрабо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428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реда разработки доступна на сайте производителя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openwatcom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3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3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3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уть установки не должен содержать пробе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96960" y="1946160"/>
            <a:ext cx="5591160" cy="3657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386400" y="194616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9F7C1-54B4-474B-851D-7E543A537C48}" type="slidenum">
              <a:t>7</a:t>
            </a:fld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ка и настройка среды разработк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Watcom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2. Установка переменных окру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634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осле установки необходимо установить следу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еременные окружения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=“C:\Watco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th=Path+“C:\Watcom\binnt;C:\Watcom\binw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DPATH=“C:\Watcom\edda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CLUDE=“C:\Watcom\h\qnx386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и установке системных переменных необходим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использовать только обратный слеш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 “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\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”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46280" y="446580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C69BF-6894-4622-818C-1F582D006EFA}" type="slidenum">
              <a:t>8</a:t>
            </a:fld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новка и настройка среды разработки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Watcom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аг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Извлечение библиотек и заголовочных фай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Для копирования необходимых библиотек и заголовоч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файлов из среды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++ необходимо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оздать директори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%WATCOM%\h\qnx386”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%WATCOM%\lib386\qnx386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копировать содержимое директори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/usr/watcom/10.6/ usr/include”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реды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++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r QNX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 заранее созданную директорию инструментальной системы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%\h\qnx386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Скопировать содержимое директории “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/usr/watcom/10.6/ usr/lib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” среды разработки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++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r QNX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в подготовленную директорию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%\lib386\qnx386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D61E7-82D6-4FB4-B5CD-3C732DD7D15C}" type="slidenum">
              <a:t>9</a:t>
            </a:fld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9:16:24Z</dcterms:created>
  <dc:creator>Андрей Докучаев</dc:creator>
  <dc:description/>
  <dc:language>en-US</dc:language>
  <cp:lastModifiedBy>anger</cp:lastModifiedBy>
  <dcterms:modified xsi:type="dcterms:W3CDTF">2008-08-26T22:00:00Z</dcterms:modified>
  <cp:revision>242</cp:revision>
  <dc:subject>Поддержка визуальной разработки приложений для QNX4 (КПДА.00002-01) в среде IBM Telelogic Rhapsody</dc:subject>
  <dc:title>Презентация</dc:title>
</cp:coreProperties>
</file>