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78912-C773-4DE1-BE6D-14887EBCA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DEB24-325F-4A72-8707-E9B35D0BAA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B3704-CE88-45CD-9F0D-46BB5C8DF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087EB-6B31-4B2D-9EBB-F08114401B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2AC0D-1DCF-4D96-9173-585FF644C1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F5F79-E290-4D6A-B141-56C1FFB10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1EF6B-B73B-4956-8574-C09148AF2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EAA46-1F20-4A62-AB77-7B94ECE4B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BC0EE-5B20-4F12-8704-D58AFDE699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2006F-A80C-40BB-99ED-35EC22AAB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95151-CF04-4A4C-A6DA-BFC49182D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4FB0B-6288-40A6-B25E-736DBA8BF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-36720" y="6367320"/>
            <a:ext cx="64764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AF12-3523-4903-82CA-39FC6E1416CB}" type="slidenum">
              <a:rPr b="1" lang="en-US" sz="16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penwatcom.org/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3052800"/>
            <a:ext cx="91440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The QNX4 Adapter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for </a:t>
            </a: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Telelogic Rhapsody</a:t>
            </a:r>
            <a:r>
              <a:rPr b="1" lang="en-GB" sz="4400" spc="-1" strike="noStrike">
                <a:solidFill>
                  <a:srgbClr val="333399"/>
                </a:solidFill>
                <a:latin typeface="Times New Roman"/>
              </a:rPr>
              <a:t>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32000" y="522900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ndrey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ocucha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BD BC, software e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ngine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.Docuchaev@kpd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allation of the QNX 4.25 adapter for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apter’s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dapter’s directory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Share” should be copied to directory “Share” of the Rhapsody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“C:\Rhapsody\Share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ay be following sit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adapter is the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re are other ad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70A89-5035-4D20-B5EC-438B0F7469D1}" type="slidenum">
              <a:t>10</a:t>
            </a:fld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allation of the QNX 4.25 adapter for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1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 without other adap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5280" y="2276640"/>
            <a:ext cx="800244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You should replace file</a:t>
            </a: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 siteC++.prp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from Rhapsody’s directory</a:t>
            </a: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“Share\Properties”</a:t>
            </a: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with file </a:t>
            </a: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sample_siteC++.pr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F4E42-FFA8-4AD1-8313-D24EC1E7BA7A}" type="slidenum">
              <a:t>11</a:t>
            </a:fld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allation of the QNX 4.25 adapter for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 if installed other adap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Edit file </a:t>
            </a: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siteC++.prp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from Rhapsody’s directory</a:t>
            </a: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“Share\Properties”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58920" y="2924280"/>
            <a:ext cx="6480000" cy="207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D6E01-2713-4E1C-BD61-F4D966304ACF}" type="slidenum">
              <a:t>12</a:t>
            </a:fld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allation of the QNX 4.25 adapter for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nishing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38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reate environment variable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nx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425_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dapter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_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ath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nd set it’s value to Rhapsody’s directory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Share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o set paths use only “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\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py file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nx4conv.exe from adapter’s directory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bin” to directory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ATCOM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%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\bin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26920" y="3529080"/>
            <a:ext cx="642960" cy="647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843280" y="2205000"/>
            <a:ext cx="3457440" cy="143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B0C13-7ABA-4DAC-B13E-AAD3B24C2D4F}" type="slidenum">
              <a:t>13</a:t>
            </a:fld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 target system with RTOS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1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CP/IP for QNX 4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912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Use “User’s Guide” to configure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CP/IP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r QNX 4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Make sure that IP address and hostname of host system are exists in configuration file “/etc/hosts”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971640" y="4357800"/>
            <a:ext cx="2152440" cy="79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788FF-7F84-4F9B-B8C4-682710088CB3}" type="slidenum">
              <a:t>14</a:t>
            </a:fld>
          </a:p>
        </p:txBody>
      </p:sp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 target system with RTOS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tivation Remote Shell (rsh)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TP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rvices Remote Shell and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TP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re available with demon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etd. When demon starting, it’s read configuration file “/etc/inetd.conf” and running services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o activate Remote Shell and FTP services you should edit this configuration file and delete symbol “#” from l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rcRect l="0" t="0" r="0" b="19512"/>
          <a:stretch/>
        </p:blipFill>
        <p:spPr>
          <a:xfrm>
            <a:off x="468360" y="3201840"/>
            <a:ext cx="5143320" cy="1081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68360" y="4354560"/>
            <a:ext cx="5181480" cy="101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7EC03-5562-4A6A-A186-70DDB7973B91}" type="slidenum">
              <a:t>15</a:t>
            </a:fld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 target system with RTOS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 and testing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mote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238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ogin to target system as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oot and create file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“/.rhosts” with rights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644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. Edit this file and add hostname of the host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In command line on the host system execute command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“rsh 192.168.0.102 –l root who –m” with IP address of the target syste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If this command finished successfully you’ll see the result of executing command “who –m” on the target system. Otherwise you should to repeat configuring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TCP/IP for QNX 4.25 and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mote Shell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4572000" cy="1200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900000" y="3357720"/>
            <a:ext cx="6381720" cy="1285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900000" y="482616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1708A-5187-40C2-8CE6-A0641AB5EEB7}" type="slidenum">
              <a:t>16</a:t>
            </a:fld>
          </a:p>
        </p:txBody>
      </p:sp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 target system with RTOS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 and testing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6348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reate user and group “ftp” on the target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ser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ftp” must have password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“ft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 command line on the host system execute ftp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tp 192.168.0.102”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o connect to target system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use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username and password “ftp”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s -al” – to test executing ftp commands on the targe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06640" y="1955880"/>
            <a:ext cx="6210000" cy="1171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06640" y="328140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B8C3D-9F61-48DC-B023-67A84F862AB2}" type="slidenum">
              <a:t>17</a:t>
            </a:fld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 target system with RTOS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 and testing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Watch the sample of executing ftp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408880" cy="395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8186E-BFBF-4A23-A0C2-CEFB247285B4}" type="slidenum">
              <a:t>18</a:t>
            </a:fld>
          </a:p>
        </p:txBody>
      </p:sp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 target system with RTOS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 4.25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ing run script file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nx425run.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66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o guarantee automatic transferring project’s executable file to the target system by FTP you should edit script file “C:\Rhapsody\Share\etc\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qnx425run.bat” and set IP address of the target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050920" y="2781360"/>
            <a:ext cx="4667400" cy="268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FBAA1-8A13-425D-B137-0D109B501082}" type="slidenum">
              <a:t>19</a:t>
            </a:fld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6672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e presentation describes the installation and configuring process for every component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quired to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generation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building and running Rhapsody developed applications on the QNX 4.25 targe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C3D97-7355-48A8-BA8E-903349E3DD7D}" type="slidenum">
              <a:t>2</a:t>
            </a:fld>
          </a:p>
        </p:txBody>
      </p:sp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sting the adapte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1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ing sampl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reate sample Rhapsody project –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un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596080" cy="383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1B495-A5A2-4096-9096-35B6BA994012}" type="slidenum">
              <a:t>20</a:t>
            </a:fld>
          </a:p>
        </p:txBody>
      </p:sp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sting the adapte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2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oosing the ad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hoose the QNX425_x86 adapter in current configuration and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sing menu item “Code\GMR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4543200" cy="1952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219640" y="4005360"/>
            <a:ext cx="3324240" cy="181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2852C-DE73-4702-B3FC-8408043E32FE}" type="slidenum">
              <a:t>21</a:t>
            </a:fld>
          </a:p>
        </p:txBody>
      </p:sp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sting the adapte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Executing the project on the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rge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0" t="0" r="11168" b="28170"/>
          <a:stretch/>
        </p:blipFill>
        <p:spPr>
          <a:xfrm>
            <a:off x="1187280" y="1268280"/>
            <a:ext cx="6769440" cy="410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A274D-D20B-4D2D-87A5-36C566ACCD53}" type="slidenum">
              <a:t>22</a:t>
            </a:fld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ank you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!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15640" y="2636640"/>
            <a:ext cx="69850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BD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aint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etersburg, Rus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http://www.kpda.ru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hone: +7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812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971 71 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-mail: support@kpda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als of QNX 4.25 adapter for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aps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upport MDD for RTOS QNX 4.25 with Telelogic Rhapsody 7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sting of installation correc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ransfer application executables on the target via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4F0D6-A9A9-4FB7-9827-54EC1B485821}" type="slidenum">
              <a:t>3</a:t>
            </a:fld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quired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elelogic Rhapsody in C++ Development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adapter has been tested with version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7.1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build no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. 893629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OpenWatcom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v.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1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atcom C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++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v.10.6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or QNX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(its libraries and headers must be accessible for adapter instal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arget system with RTOS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QNX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4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TCP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P stack must to be installed on the QNX4 target for transferring execu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1A379-C47C-41CD-A7E0-14A0AAAAE451}" type="slidenum">
              <a:t>4</a:t>
            </a:fld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paration of a developer’s work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stallation and configuring OpenWat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pying libraries and headers from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Watcom C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quired for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QNX4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lelogic Rhapsody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Adapter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onfiguring TCP/IP stack, FTP and inetd on the QNX target system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o automated receiving executables from Rhaps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50A79-35B2-4367-B257-3BCC4C858B5F}" type="slidenum">
              <a:t>5</a:t>
            </a:fld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allation and configuring OpenWatco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1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428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penWatcom can be downloaded from official web sit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openwatcom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34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34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34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he installation path must have no sp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96960" y="1946160"/>
            <a:ext cx="5591160" cy="3657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386400" y="194616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ACBA6-9C33-45B2-93F8-B74B1A24B319}" type="slidenum">
              <a:t>6</a:t>
            </a:fld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allation and configuring OpenWatcom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2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tting environment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fter installation you should set environment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ATCOM=“C:\Watco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th=Path+“C:\Watcom\binnt;C:\Watcom\bin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DPATH=“C:\Watcom\edda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CLUDE=“C:\Watcom\h\qnx386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o set paths use only “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\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55640" y="4479840"/>
            <a:ext cx="64296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0B873-AF94-413E-BA6D-CFF78FABC489}" type="slidenum">
              <a:t>7</a:t>
            </a:fld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allation and configuring OpenWatcom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tracting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braries and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aders from Watcom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reating directories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%WATCOM%\h\qnx386” and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%WATCOM%\lib386\qnx386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pying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/usr/watcom/10.6/usr/include/*” from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atcom C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++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or QNX to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%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ATCOM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%\h\qnx386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” on the hos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pying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/usr/watcom/10.6/usr/lib/*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”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rom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atcom C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++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or QNX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o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%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ATCOM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%\lib386\qnx386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” on the hos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29216-F8B8-4FF1-B1D1-E2D2E6882CA9}" type="slidenum">
              <a:t>8</a:t>
            </a:fld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allation and configuring OpenWatcom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p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4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adapter includes a test for OpenWatcom. The test consist of two files: C++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ample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.cpp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nd build script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ke.bat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 After running the build script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n object file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(1.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bj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and an executable file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.qnx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re expected to be created. Otherwise you should to reinstall OpenWatc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11280" y="3025800"/>
            <a:ext cx="3960720" cy="2665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716360" y="3025800"/>
            <a:ext cx="381636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9A15F-7FBF-49B6-8C2D-A537A6C7738A}" type="slidenum">
              <a:t>9</a:t>
            </a:fld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19:16:24Z</dcterms:created>
  <dc:creator>Andrey Docuchaev</dc:creator>
  <dc:description/>
  <dc:language>en-US</dc:language>
  <cp:lastModifiedBy>anger</cp:lastModifiedBy>
  <dcterms:modified xsi:type="dcterms:W3CDTF">2008-08-26T21:59:11Z</dcterms:modified>
  <cp:revision>314</cp:revision>
  <dc:subject>Supporting visual development of applications for QNX4 in Telelogic Rhapsody</dc:subject>
  <dc:title>Presentation</dc:title>
</cp:coreProperties>
</file>