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7B0BF-C2A1-42CF-95B6-AE7388DD9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03E2-4C15-4BB3-8900-9ECFF6EE0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3CC25-EC5D-4E46-9043-A6D84610A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55463-92A6-46F6-A07C-43CFC9C2D7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B87C5-A647-4F5C-B194-847B68A629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A544-0DFF-4577-96A6-B40FE6CBF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E6CBF-620D-460B-92DF-AACAF1B01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10FF8-7996-4C29-B04E-68AF76D4C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11020-531D-4033-98DE-DC9212C95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E12A7-8884-4FDF-9289-1402F2A22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BE1D0-FE42-4353-B1A7-744D83900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A6000-172A-413D-ACE9-C6E8842F8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-36720" y="6367320"/>
            <a:ext cx="64764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C75A-58F7-4787-A915-F803CBB0ED10}" type="slidenum">
              <a:rPr b="1" lang="en-US" sz="16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penwatcom.org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924280"/>
            <a:ext cx="8642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QNX4 адаптер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для Telelogic Rhapsody</a:t>
            </a:r>
            <a:r>
              <a:rPr b="1" lang="en-GB" sz="4400" spc="-1" strike="noStrike">
                <a:solidFill>
                  <a:srgbClr val="333399"/>
                </a:solidFill>
                <a:latin typeface="Times New Roman"/>
              </a:rPr>
              <a:t>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32000" y="5157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Андрей Докуча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нженер–программи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ООО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ВД Встраиваемые Системы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.Docuchaev@kpd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и настройка среды разработк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Watcom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4. 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 архиве с адаптером поставляется тест корректности установки среды разработк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penWatcom.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Тест состоит из двух файлов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C++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кода примера (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.cpp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) и командного файла его сборки (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ake.bat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Запуск командного файла, при условии корректной установке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penWatcom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риведет к созданию объектного файла (1.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bj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 исполняемого (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.qnx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280" y="3025800"/>
            <a:ext cx="3960720" cy="2665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16360" y="3025800"/>
            <a:ext cx="381636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FB8E1-4344-46E5-8982-2D805D7DC79A}" type="slidenum">
              <a:t>10</a:t>
            </a:fld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BM Telelogic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91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становка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hapsody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е выз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трудностей, единственное важное условие – путь устан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е должен содержать проб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дальнейшем будем считать, что среда раз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становлена директорию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C:\Rhapsod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3200" y="4178160"/>
            <a:ext cx="642960" cy="6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46CE0-A25D-4FE2-81EF-5307943CE38C}" type="slidenum">
              <a:t>11</a:t>
            </a:fld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адаптер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Проверка структуры адап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иректория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Share”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даптера должна содержать след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анные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даптер поставляется в виде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жатого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ar -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арх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76360" y="1874880"/>
            <a:ext cx="6305400" cy="2943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39640" y="4782960"/>
            <a:ext cx="642960" cy="6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46980-FF94-4049-9DE0-0F96ACD53A6F}" type="slidenum">
              <a:t>12</a:t>
            </a:fld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адаптер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Установка адап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одержимое директории адаптера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Share”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еобходимо скопировать в одноименную директорию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hapsody (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рассматриваемом случае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C:\Rhapsody\Shar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Идентификация адаптера в среде разработки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Rhapsody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осуществляется при помощи файлов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войств из директори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C:\Rhapsody\Share\Properties”.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и настройке адаптера возможны следующие варианты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данный адаптер един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 среде разработки уже имеются другие адапт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69AB2-6815-4BEB-ABFA-FBFD6B7F5193}" type="slidenum">
              <a:t>13</a:t>
            </a:fld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становка адаптер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ля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.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 Конфигурирование среды разработки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hapsody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 отсутствии других адапт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5920" y="1782360"/>
            <a:ext cx="800244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данном случае достаточно заменить файл siteC++.prp, находящийся в директори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Share\Properties”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на файл sample_siteC++.prp из этой же дирек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даление файла siteC++.prp может привести к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евозможности запуска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8720" y="3656160"/>
            <a:ext cx="6159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4513B-EA34-44F1-BD6D-29CEC8489717}" type="slidenum">
              <a:t>14</a:t>
            </a:fld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становка адаптер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ля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.2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 Конфигурирование среды разработки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hapsody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 наличии других адапт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случае наличия других установленных адаптеров, например адаптера QNX63_x86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необходимо скорректировать файл siteC++.prp из директори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Share\Properties”,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обавив указанные строки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осле выполнения этих действий необходи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ерезапустить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58920" y="2665440"/>
            <a:ext cx="6480000" cy="2074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11280" y="4782960"/>
            <a:ext cx="642960" cy="6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1335D-DD90-41CE-8611-DF8CC0D677B2}" type="slidenum">
              <a:t>15</a:t>
            </a:fld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адаптер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Завершение установки адап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оздайте переменную окружения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qnx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425_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apter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_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ath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и укажите в ней путь к директори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Share”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реды разработк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haps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ри указании пути используйте только обратный слеш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 “\”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копируйте файл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qnx4conv.exe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з директори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bin”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адаптера в директорию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ATCOM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\binnt”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реды разработк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penWat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3313080"/>
            <a:ext cx="642960" cy="647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843280" y="1944720"/>
            <a:ext cx="3457440" cy="143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407CE-8862-427F-8283-4083D8704B5B}" type="slidenum">
              <a:t>16</a:t>
            </a:fld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ройка целевой системы под управление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1. Настройка модуля поддержк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91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ыполните настройку модуля поддержки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CP/IP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в соответствии с эксплуатационной документацией фирмы разработч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Убедитесь в наличии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P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адреса и соответствующего имени хоста инструментальной системы в конфигурационном файле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/etc/hosts”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61920" y="4573440"/>
            <a:ext cx="2152800" cy="8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DE187-917C-4F59-B197-2C4A6AEA5EB0}" type="slidenum">
              <a:t>17</a:t>
            </a:fld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ройка целевой системы под управление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Активирование сервисо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Shell (rsh)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Доступ к сервисам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Remote Shell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TP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осуществляется при 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демона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netd.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ри запуске демон считывает конфигурационный фай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/etc/inetd.conf”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 в соответствии с его содержанием запуск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необходимые сервисы. Для активации указанных выше серви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необходимо отредактировать данный конфигурационный файл, удали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имволы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#”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з следующих строк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0" t="0" r="0" b="19512"/>
          <a:stretch/>
        </p:blipFill>
        <p:spPr>
          <a:xfrm>
            <a:off x="568440" y="3108240"/>
            <a:ext cx="5143320" cy="1081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68440" y="4260960"/>
            <a:ext cx="5181480" cy="10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798A-8126-482E-940B-63E44B565A69}" type="slidenum">
              <a:t>18</a:t>
            </a:fld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ройка целевой системы под управление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Настрой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тестирование сервис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23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Создадим от имени пользователя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oot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файл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“/.rhosts”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с правами 644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 внесем в него имя хоста с которого разрешено подключаться к целевой системе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 командной строке инструментальной системы выполним команду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“rsh 192.168.0.102 –l root who –m”,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указав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P –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адрес целевой системы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При успешном завершении команды будет выведен результат выполнения команды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ho –m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на целевой системе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 противном случае необходимо проверить настройку модуля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CP/IP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 службы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mote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4572000" cy="1200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900000" y="3357720"/>
            <a:ext cx="6381720" cy="1285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900000" y="48690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FE279-B815-4E85-894A-0D87BEEB5814}" type="slidenum">
              <a:t>19</a:t>
            </a:fld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з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Рассмотрен способ автоматической генерации кода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++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для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NX 4.25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 среде разработки Telelogic Rhapsody версии 7.1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при помощи соответствующего адап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Подробно описан алгоритм установки и настройки компонентов, необходимых для автоматической генерации кода, его сборки и запуска на целевой системе под управлением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NX 4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70A5-8B3C-4EA6-9134-AB9E9D5905BF}" type="slidenum">
              <a:t>2</a:t>
            </a:fld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ройка целевой системы под управление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стройка и тестировани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оздадим пользователя и группу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“ft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ользователь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ftp”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олжен иметь пароль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ft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командной строке инструментальной системы выполним следующие команды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казав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P –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дрес целевой системы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tp 192.168.0.102”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- для подключения к целевой системе (указав имя пользователя и пароль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ftp”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s -al” –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для проверки возможности выполнения кома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00000" y="1512720"/>
            <a:ext cx="6210360" cy="1171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00000" y="28098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36A5A-623A-4308-8674-3D1E11664E34}" type="slidenum">
              <a:t>20</a:t>
            </a:fld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ройка целевой системы под управление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стройка и тестировани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имер выполнения команд приведен ниже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408880" cy="395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19FF9-1FF7-450D-84EA-81E916216E4C}" type="slidenum">
              <a:t>21</a:t>
            </a:fld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ройка целевой системы под управление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Настройка скрипт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425run.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ля обеспечения возможности автоматической передачи исполняемого файла проекта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hapsody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на целевую систему по протоколу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TP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файле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C:\Rhapsody\Share\etc\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425run.bat”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еобходимо указать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P –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дрес целевой системы, как это отражено на рисунке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0920" y="2781360"/>
            <a:ext cx="466740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59A62-C9F4-4733-A7F9-49D6AF3B3B16}" type="slidenum">
              <a:t>22</a:t>
            </a:fld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естирование адаптера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Шаг 1. Создание новог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Создаем тестовый проект, например – счет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596080" cy="383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7EBE1-124D-471A-A009-56F5491DD49F}" type="slidenum">
              <a:t>23</a:t>
            </a:fld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естирование адаптера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Шаг 2. Выбор активного адап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настройках текущей конфигурации выбираем адаптер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425_x86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и собираем проект (пункт меню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de\GMR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4543200" cy="1952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3324240" cy="181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B57B-8732-4CE3-8390-37736F665A50}" type="slidenum">
              <a:t>24</a:t>
            </a:fld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стирование адаптер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Исполнение на целевой маш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rcRect l="0" t="0" r="11168" b="28170"/>
          <a:stretch/>
        </p:blipFill>
        <p:spPr>
          <a:xfrm>
            <a:off x="1187280" y="1268280"/>
            <a:ext cx="6769440" cy="41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306F-370F-4849-A229-2F3D43679082}" type="slidenum">
              <a:t>25</a:t>
            </a:fld>
          </a:p>
        </p:txBody>
      </p:sp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15640" y="2637000"/>
            <a:ext cx="6985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ООО «СВД Встраиваемые Систе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196066, г. Санкт-Петербург,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Московский проспект, д. 212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тел.: (812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971-71-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факс: (812) 373-19-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нтернет: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ttp://www.kpda.ru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Тех. поддержка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support@kpd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lelogic 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elelogic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Rhapsody – это среда разработки на основе языка визуального моделирования UML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2.0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(Unified Modeling Language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а также SysML - расширения UML для описания аппаратно-программных систем, а также встраиваемых систем и систем реального времени.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Rhapsody предоставляет системным инженерам и разработчикам ПО общую среду разработки с использованием визуального моделирования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Rhapsody позволяет автоматизировать процесс проектирования встраиваемых систем, включающий проектирование систем и программного обеспечения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оддержка генерации кода для специфичной ОС осуществляется посредством разработки соответствующего адаптера, являющегося прослойкой между ОС 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hapsody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E9D74-B4C4-4D6A-A60D-9F84D4F186AE}" type="slidenum">
              <a:t>3</a:t>
            </a:fld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значение адаптер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даптер предназначен для поддержки автоматической генерации и сбор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++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кода в среде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lelogic Rhapsody 7.1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для ОС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 4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состав адаптера входят файлы, необходимые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осуществления автоматической генерации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омежуточного тестирования работо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Имеется возможность автоматической передачи исполняемых файлов приложений, сгенерированных в среде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lelogic Rhapsody 7.1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а целевую систему по протоколу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8D85B-4471-480A-BE29-6AA82019F09B}" type="slidenum">
              <a:t>4</a:t>
            </a:fld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еобходимое 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Для установки адаптера необходимо следующее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ПО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реда разработки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lelogic Rhapsody in C++ Development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Адаптер тестировался с версией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7.1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Build No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. 893629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истема программирования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penWatcom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версии 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реда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++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v.10.6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для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QNX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4, доступная на время установки адап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Целевая система под управлением ОС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ерсии 4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Для обеспечения автоматической передачи исполняемого файла проекта на целевой системе необходимо установить модуль поддержк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CP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2BFE2-5613-48DE-92AD-159BEE122768}" type="slidenum">
              <a:t>5</a:t>
            </a:fld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дготовка рабочего места разработч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Подготовка рабочего места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может выполнять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ледующей последовательности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становка и настройка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penWat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Копирование из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библиотек и заголовочных файлов, необходимых при разработке приложений ОС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становка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BM Telelogic 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становка адап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астройка целевой системы с ОС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 4.25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ля автоматизированного приема исполняемых файлов приложений, сгенерированных в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58FB-32AB-43BC-A7C7-D788AB864E90}" type="slidenum">
              <a:t>6</a:t>
            </a:fld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и настройка среды разработк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Watcom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1. Установка среды раз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28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реда разработки доступна на сайте производителя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openwatcom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3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3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3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уть установки не должен содержать пробе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96960" y="1946160"/>
            <a:ext cx="5591160" cy="3657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386400" y="194616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B3D1D-D20F-4DCE-B7E7-FB0D40D2C552}" type="slidenum">
              <a:t>7</a:t>
            </a:fld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и настройка среды разработк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Watcom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2. Установка переменных окру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634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осле установки необходимо установить след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еременные окружения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=“C:\Watco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th=Path+“C:\Watcom\binnt;C:\Watcom\bin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DPATH=“C:\Watcom\edd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CLUDE=“C:\Watcom\h\qnx386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и установке системных переменных необходим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использовать только обратный слеш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 “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\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”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46280" y="44658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BA83-957B-459A-93CD-08949F02EC13}" type="slidenum">
              <a:t>8</a:t>
            </a:fld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и настройка среды разработк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Watcom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Извлечение библиотек и заголовочных фай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ля копирования необходимых библиотек и заголовоч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файлов из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++ необходимо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оздать директори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%WATCOM%\h\qnx386”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%WATCOM%\lib386\qnx386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копировать содержимое директори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/usr/watcom/10.6/ usr/include”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++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QNX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заранее созданную директорию инструментальной системы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%\h\qnx386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копировать содержимое директории 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/usr/watcom/10.6/ usr/lib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”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++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QNX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в подготовленную директорию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%\lib386\qnx386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0B2B-8E19-44E8-B843-E483993D80C9}" type="slidenum">
              <a:t>9</a:t>
            </a:fld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9:16:24Z</dcterms:created>
  <dc:creator>Андрей Докучаев</dc:creator>
  <dc:description/>
  <dc:language>en-US</dc:language>
  <cp:lastModifiedBy>anger</cp:lastModifiedBy>
  <dcterms:modified xsi:type="dcterms:W3CDTF">2008-08-26T22:00:00Z</dcterms:modified>
  <cp:revision>242</cp:revision>
  <dc:subject>Поддержка визуальной разработки приложений для QNX4 (КПДА.00002-01) в среде IBM Telelogic Rhapsody</dc:subject>
  <dc:title>Презентация</dc:title>
</cp:coreProperties>
</file>