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5EC8-EF3F-44ED-BAB1-C0BDBFE52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E7009-0791-4010-B5E3-1F4D9583E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5479-85E3-4664-B1FF-F5BDE9E5C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243B-BFC7-4FFB-A910-5FF6DDA71E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2382-E78F-440B-86E4-5184B1FC6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D14E-985E-4ED8-97B6-485C1D00D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435B-13EB-4008-9957-C1E7A47D5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1168-D068-43DE-911D-03AE7158B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301F-1DEB-41E1-9709-11D8CA706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F627-DC3C-4D84-A711-D5AB7699A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BEB1-62E6-45B3-8205-9C447F09F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8D1D-2F75-49A1-846C-E151B8157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36720" y="6367320"/>
            <a:ext cx="64764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D4DD-DA38-4B7C-94DE-9ADD18A9BD0A}" type="slidenum">
              <a:rPr b="1" lang="en-US" sz="16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watcom.org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05280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he QNX4 Adapter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for </a:t>
            </a: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Telelogic Rhapsody</a:t>
            </a:r>
            <a:r>
              <a:rPr b="1" lang="en-GB" sz="4400" spc="-1" strike="noStrike">
                <a:solidFill>
                  <a:srgbClr val="333399"/>
                </a:solidFill>
                <a:latin typeface="Times New Roman"/>
              </a:rPr>
              <a:t>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dre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ocucha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BD BC, software 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ngin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.Docuchaev@kp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of the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apter’s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dapter’s directory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Share” should be copied to directory “Share” of the Rhapsody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“C:\Rhapsody\Shar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y be following sit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adapter is th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re are other ad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5FC0-DF26-4F06-82B9-995F534B3831}" type="slidenum">
              <a:t>10</a:t>
            </a:fld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of the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without other adap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2276640"/>
            <a:ext cx="800244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You should replace file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 siteC++.prp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from Rhapsody’s directory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“Share\Properties”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ith file 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sample_siteC++.p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FC53-4428-4225-9BA7-979F672C3D3A}" type="slidenum">
              <a:t>11</a:t>
            </a:fld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of the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if installed other adap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dit file 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siteC++.prp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rom Rhapsody’s directory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“Share\Propertie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58920" y="2924280"/>
            <a:ext cx="6480000" cy="20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434A-BF87-43F9-B450-C80721D41E6C}" type="slidenum">
              <a:t>12</a:t>
            </a:fld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of the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ishing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38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eate environment variab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25_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apter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_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th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d set it’s value to Rhapsody’s director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 set paths use only 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py fi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4conv.exe from adapter’s director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bin” to director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\bin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3529080"/>
            <a:ext cx="642960" cy="64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843280" y="2205000"/>
            <a:ext cx="3457440" cy="143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02F1-7C58-4776-B4AB-E79E20F6649C}" type="slidenum">
              <a:t>13</a:t>
            </a:fld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P/IP for QNX 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se “User’s Guide” to configure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CP/IP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r QNX 4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ake sure that IP address and hostname of host system are exists in configuration file “/etc/hosts”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1640" y="4357800"/>
            <a:ext cx="2152440" cy="79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2D74-2C1D-4108-B589-DE1BBA77D434}" type="slidenum">
              <a:t>14</a:t>
            </a:fld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vation Remote Shell (rsh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rvices Remote Shell and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TP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e available with demon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etd. When demon starting, it’s read configuration file “/etc/inetd.conf” and running services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 activate Remote Shell and FTP services you should edit this configuration file and delete symbol “#” fro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0" r="0" b="19512"/>
          <a:stretch/>
        </p:blipFill>
        <p:spPr>
          <a:xfrm>
            <a:off x="468360" y="3201840"/>
            <a:ext cx="5143320" cy="108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8360" y="4354560"/>
            <a:ext cx="5181480" cy="10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D3BF-60DC-4A00-97F2-4611146CE3CF}" type="slidenum">
              <a:t>15</a:t>
            </a:fld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and tes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23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ogin to target system as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ot and create file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“/.rhosts” with rights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644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. Edit this file and add hostname of the host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n command line on the host system execute command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“rsh 192.168.0.102 –l root who –m” with IP address of the target syst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f this command finished successfully you’ll see the result of executing command “who –m” on the target system. Otherwise you should to repeat configuring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CP/IP for QNX 4.25 and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mote Shell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457200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6381720" cy="1285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900000" y="482616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169A-F7DA-47F1-9741-3723726D12C6}" type="slidenum">
              <a:t>16</a:t>
            </a:fld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and tes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348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eate user and group “ftp” on the target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r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ftp” must have password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ft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 command line on the host system execute ftp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tp 192.168.0.102”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o connect to target system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se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sername and password “ftp”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s -al” – to test executing ftp commands on the targ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06640" y="1955880"/>
            <a:ext cx="6210000" cy="117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06640" y="32814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972E-D195-4E11-9592-C47393FBF4DA}" type="slidenum">
              <a:t>17</a:t>
            </a:fld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and tes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h the sample of executing ftp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40888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9858-7BD6-47D6-8805-61513CD961C4}" type="slidenum">
              <a:t>18</a:t>
            </a:fld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run script file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425run.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 guarantee automatic transferring project’s executable file to the target system by FTP you should edit script file “C:\Rhapsody\Share\etc\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nx425run.bat” and set IP address of the target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0920" y="2781360"/>
            <a:ext cx="46674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77DCB-2A7F-4E64-8406-005E3D60AE06}" type="slidenum">
              <a:t>19</a:t>
            </a:fld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resentation describes the installation and configuring process for every component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quired to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eneration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building and running Rhapsody developed applications on the QNX 4.25 targe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DF80-0FF9-4A92-BB91-315232DF0E75}" type="slidenum">
              <a:t>2</a:t>
            </a:fld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ing the adapte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ing sampl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eate sample Rhapsody project –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un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96080" cy="383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7E76-25A5-4E8B-B027-2307E835E4F5}" type="slidenum">
              <a:t>20</a:t>
            </a:fld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ing the adapte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ing the ad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hoose the QNX425_x86 adapter in current configuration and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ing menu item “Code\GMR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4543200" cy="1952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3324240" cy="181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660D-43BD-4B26-83BD-07864415B0D5}" type="slidenum">
              <a:t>21</a:t>
            </a:fld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ing the adapte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xecuting the project on the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rge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0" r="11168" b="28170"/>
          <a:stretch/>
        </p:blipFill>
        <p:spPr>
          <a:xfrm>
            <a:off x="1187280" y="1268280"/>
            <a:ext cx="676944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1998-2F0F-4D97-96B1-EF3BB7E7205F}" type="slidenum">
              <a:t>22</a:t>
            </a:fld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ank you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15640" y="2636640"/>
            <a:ext cx="69850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BD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aint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tersburg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://www.kpda.ru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hone: +7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81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971 71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-mail: support@kpd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als of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upport MDD for RTOS QNX 4.25 with Telelogic Rhapsody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sting of installation correc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ransfer application executables on the target via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E289-6193-44CC-B2B8-E160E99F5CA3}" type="slidenum">
              <a:t>3</a:t>
            </a:fld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quire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lelogic Rhapsody in C++ Development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adapter has been tested with version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7.1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uild no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. 893629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.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1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++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v.10.6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QNX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(its libraries and headers must be accessible for adapter instal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arget system with RTOS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NX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4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TCP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P stack must to be installed on the QNX4 target for transferring execu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9EFC-245B-48A0-8DE8-C0BB35EC57F3}" type="slidenum">
              <a:t>4</a:t>
            </a:fld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paration of a developer’s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stallation and configuring OpenWat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pying libraries and headers from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quired for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QNX4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lelogic Rhapsody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dapter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iguring TCP/IP stack, FTP and inetd on the QNX target system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o automated receiving executables from Rhaps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F92B-CA22-4D0F-8694-B02B0428D7C7}" type="slidenum">
              <a:t>5</a:t>
            </a:fld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and configuring OpenWatco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28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nWatcom can be downloaded from official web sit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openwatcom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installation path must have no 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96960" y="1946160"/>
            <a:ext cx="559116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386400" y="194616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21E0-68D0-4A93-800F-42EB62C8574B}" type="slidenum">
              <a:t>6</a:t>
            </a:fld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and configuring OpenWatco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ting environmen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fter installation you should set environment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=“C:\Wat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th=Path+“C:\Watcom\binnt;C:\Watcom\bin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DPATH=“C:\Watcom\edd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CLUDE=“C:\Watcom\h\qnx386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 set paths use only “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\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447984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D651-264E-4D63-8571-495A88F6ED35}" type="slidenum">
              <a:t>7</a:t>
            </a:fld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and configuring OpenWatco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braries and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ders from Watcom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reating directories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%WATCOM%\h\qnx386” and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%WATCOM%\lib386\qnx386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pying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/usr/watcom/10.6/usr/include/*” fr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++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QNX to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%\h\qnx386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” on the hos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pying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/usr/watcom/10.6/usr/lib/*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”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r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++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QNX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%\lib386\qnx386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” on the hos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AB3C-5570-484B-AE8F-BD548AA399C9}" type="slidenum">
              <a:t>8</a:t>
            </a:fld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and configuring OpenWatco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4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adapter includes a test for OpenWatcom. The test consist of two files: C++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amp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.cpp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d build script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ke.bat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 After running the build script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 object fi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(1.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bj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nd an executable fi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.qnx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e expected to be created. Otherwise you should to reinstall OpenWatc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3025800"/>
            <a:ext cx="3960720" cy="266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3025800"/>
            <a:ext cx="381636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2EBA-B090-4F38-9159-3759647922CA}" type="slidenum">
              <a:t>9</a:t>
            </a:fld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9:16:24Z</dcterms:created>
  <dc:creator>Andrey Docuchaev</dc:creator>
  <dc:description/>
  <dc:language>en-US</dc:language>
  <cp:lastModifiedBy>anger</cp:lastModifiedBy>
  <dcterms:modified xsi:type="dcterms:W3CDTF">2008-08-26T21:59:11Z</dcterms:modified>
  <cp:revision>314</cp:revision>
  <dc:subject>Supporting visual development of applications for QNX4 in Telelogic Rhapsody</dc:subject>
  <dc:title>Presentation</dc:title>
</cp:coreProperties>
</file>